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4A3A7-AB25-4154-83FA-7F5D65BB2B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559BB-97FE-4A1F-A077-897F4B1B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2D4E-B2D6-449A-92B0-09FBD267FB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4F84-9BB8-4D67-86C1-36160A5F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B491F-5CF4-4E24-BD23-33D00E569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157A3-C286-47AA-A869-27EA7C352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F1212-254D-4E51-9236-30B50B78B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CD98E-099F-4D07-846D-3A4C4B29C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97CBD-B5E5-4B65-95AF-5F6FAB9F1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306BF-AB0D-4C50-A49D-959F6AA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FC5E6-C543-4D72-AF72-861EC0158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AA681-C7D7-4766-964E-0E815630F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97CF5-97A3-46DD-907F-4C6974E6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E4E60-323A-49EA-82F1-739C6C707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D657F-4439-4432-8AEC-E694425EE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AAE60-C3D3-4E99-8CA1-D62A64F9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A948-8727-4B12-B392-01279B2F37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BABF-6537-4349-82B1-4D9052C55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299CC-B6DD-425D-9903-997F1477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0C36-5610-4579-8383-A3C1CE496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4747-4316-4651-A561-51760E80B2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56971-0FC0-40B4-A102-DE1E096C4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A6F6-900D-44EC-AE45-53E55E613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F596-B53C-44F1-A785-785ABE8C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G Technical Meeting, Orlando, June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196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39F908C-3651-48AE-9D9D-29D16D0E4830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81676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152280" y="0"/>
            <a:ext cx="1123920" cy="1228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-</a:t>
            </a:r>
            <a:endParaRPr b="0" i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Based</a:t>
            </a:r>
            <a:endParaRPr b="0" i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Communication</a:t>
            </a:r>
            <a:endParaRPr b="0" i="1" lang="en-US" sz="16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8153280" y="15228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124080" y="1676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95DB6917-2E06-41A8-BEB2-C2944FA71068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5228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9" name=""/>
          <p:cNvSpPr/>
          <p:nvPr/>
        </p:nvSpPr>
        <p:spPr>
          <a:xfrm>
            <a:off x="2133720" y="1143000"/>
            <a:ext cx="65674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6858000" y="152280"/>
            <a:ext cx="1981080" cy="78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C Existing RF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 &amp; PSM for SWRadio Compon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nalization – Adopted 4/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ghtweight Services (RTES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38080" indent="-3808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Finalization – Adopted 11/0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C86B8-9221-44B3-8464-1E84C35407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C Planned RFPs (Aug 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y management (generation, distribution, storage, lifecycle, certificates, etc. including group keying support)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ypto algorithm selection &amp; manageme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audi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nsmission secur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 I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rt Antenn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 &amp; PSM for SWRadio descriptors (RF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778B-7BCB-4718-B1E5-30689BB9F51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BC Planned RFPs (beyond Aug 04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ity policy distribution &amp; management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hentication of and by user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cess control including support for MILS/MLS/other A/C architectures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rusion detection and reporting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neral encode/decode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gram/policy/data integrity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untermeasure integration and selec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-repudiation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4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ure packaging/change control/CM of app/platform/integration of both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48355-A326-4AC2-93E1-60B17E2B1DF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Non RFC/RFP Activiti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General Security Requirements for conformance with other security frameworks like EAL evaluations and the Common Crite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 overall Software Radio Security Architecture (Montre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/incorporate RFI respon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ter LW Log RTF (Part 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07732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37817-4AF4-4528-9727-A8951ABE385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03:14:17Z</dcterms:created>
  <dc:creator/>
  <dc:description/>
  <dc:language>en-US</dc:language>
  <cp:lastModifiedBy>KEVIN RICHARDSON</cp:lastModifiedBy>
  <cp:lastPrinted>2001-04-17T19:56:05Z</cp:lastPrinted>
  <dcterms:modified xsi:type="dcterms:W3CDTF">2004-06-24T15:30:56Z</dcterms:modified>
  <cp:revision>165</cp:revision>
  <dc:subject/>
  <dc:title>SBC Existing RFPs</dc:title>
</cp:coreProperties>
</file>